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3C66-31DB-46D6-9298-CAEDB0417B27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E703-3F02-4D4D-97D7-29A0AAA70A9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D73-9977-4A8F-A0B4-CE64E8E8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4A9-82C4-420A-81EB-FF191D11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EE665-163B-4F81-A1E9-013B1498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23F6F-1EA2-42A9-BD57-343A099F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C2633-63A2-480A-9D09-5838999C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6FB98-1998-439B-A2C1-F79A536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E1A17-FC43-4A42-BBD2-8A4EEF59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23D4B-7351-413D-BF9F-E04CAF0E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FD0F6-5B01-4828-82C8-6A4AD906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6BC11-B5DB-4041-8A24-66734424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34AB4-A9D2-4E4F-A1E0-F8C1A4AC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B1C60-FA89-4770-A1F5-A39889E5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4D6-4919-4599-AC19-27D25182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EA965-CD8B-4ECC-BE97-C7ADFDFC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A90C6-D39E-470E-80F2-C0EB82DA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42B6F-397D-4B32-9E19-180B32A9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2A293-43CB-4344-B2EC-4A9F653D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48B99-0FE9-418E-B332-D2594943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6D646-CC6E-4D74-BA96-EA2643C4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6F9F1-4B17-4E8E-8A55-1500092D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186C1-E284-4C50-AB91-6C9990D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DD2F5-D3B9-4189-886F-39D3EF50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DE549-B7EE-48E7-81A1-55E5DCFD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1DB-D33B-40C2-95E8-474634B7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E1B35-4D5C-4420-BAD0-BD8989B9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DAFAF-3C53-4B2F-ACB0-97352F0C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6FE94-63EA-47B7-B7DF-612367E3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2A06C-6CB4-483F-B8F2-5DAEF80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A1C73-FE80-4E17-81FD-EFF9ED69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90F20-E537-4C39-8338-53E81469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900C1-3766-4836-8393-34E0D6CA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9634A-A044-40DD-99DA-A6965DCB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7D456-0A16-4DED-9695-78EE51BB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0076A-477E-4737-8C55-4925BA6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3D21-BE3C-4495-A9BD-2C843BD2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BE949-32E6-41B7-848A-44179C28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CC580-B241-4A76-ADF3-F444CF12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3AACC-AAB0-4CE1-8DEC-FE6B0299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CE748-AEB9-4DA0-822A-220CA1CD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DD803-3D61-4B71-A78A-6AD7B601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AC7B3-ACCE-488B-9B19-A52B5BF4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A11FC-1194-44A6-A939-002DA6D0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822FA-92B3-445C-B960-024DAA63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5E05E-3771-4C44-BEBF-A8CEB388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C50EA-CF79-4832-A4F3-81C98BF8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F261-1358-4C8B-AFFF-D83257A7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6624D-ED16-4E16-BD1E-BBD37C66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17C9E-5067-4278-A428-00E75FB4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26AE9-0722-45BE-B334-F6B428DC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3BB31-5D54-4F3C-AAF9-55937831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D8FAC-36F4-49E2-92BB-75044B66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B22C-A42E-467E-A793-3032B4C2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2DC0-C57A-465E-84D0-E3F43F6E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FF9F-AE96-41A5-AD9D-A401343F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976C-D14A-4A11-A589-B188B66D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D45B-814C-4FA5-AB41-9DCEC40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91D-5D5D-4FD5-B8E5-C1E3D0E3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C1B9-7C34-4277-9AB1-5E5563B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04F3-69CA-4FA4-898F-A11F55C5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4B91-20D8-40AC-BA76-E9151D25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930D-DD08-425A-B108-67DCB23F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9DED-3FEB-4DC4-B0EF-BAC26D00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92EE-A547-4B65-8CC2-BE304A10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5010-D2ED-4EE1-BE4C-D1A8A171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BE7EF-AF66-432F-AF33-6FBB7CE2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FEC4-EA70-4E6C-91D4-ACFDC56B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2BA9-9C66-4222-B344-FDD27B10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F53-D54B-48D6-990B-ABC7437E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ADCF-CB4F-4606-8E75-F8FFC749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013F-C4B6-407F-B5FC-76345E6D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304D-CA36-488F-9130-31FA4561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77D7-C34F-4F4D-935D-094FECD4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7D647-8FC6-40B2-9D80-02C87D62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6678-85C1-4676-B77B-840A95C7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EE90-0326-4B3D-B669-B822DBAF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E0EB9-0AC4-47B7-8650-D761C512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0941-CD64-4382-9ED7-7FE91B6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E5EC-4A69-4526-8031-219BFE81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54F-6BE3-4E45-9C20-E951F351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4A138-E2EF-42A4-8024-73033B37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952E5-6C14-419D-98E2-79455311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7BB2-83AD-49CE-AAAC-19713F0B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8498C-4DFC-4778-A93F-7A79E936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F2D9-2490-40E6-9231-F26786B8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7321-7ED4-4E1F-A733-30E417F0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8986-6F61-4275-9919-C3DFBD6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C24A-CE5C-4FAB-A0F9-6085FBE0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D7A7-B9B8-4758-A3AB-7E307B53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02AAC-7EB0-4D9E-9492-493461B1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878-0174-4639-960B-613CB04E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5D36C-1DEA-467F-8D9E-428D17EE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10AE0-75B2-43FA-9C12-9F2494DE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0A054-2EC7-406B-997C-DA653596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F696-DA82-4C9A-B080-22A12D7D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4E1C-0B5E-4B24-B7CA-F351B2A6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AA5BF-A48D-4FFC-AD05-E3F2FBDD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742B-DAC4-4672-BAFB-6CA69398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C5982-C3CF-4977-965A-4FEBB153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0220F-C2B2-4254-B08B-000B1F69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10688-828D-401E-B4EB-690B5FA4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85B-5620-44C5-AEF3-D5AAEE1E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68EAB-EFCB-4F71-B61A-DD2DF539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4754C-20E4-4D61-8140-C4D9EAC4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02EB6-0492-4AC9-A32B-69E7125D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5D4BE-22C6-448F-BF17-3FA184A0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9515-A203-4F99-BEE4-AB483B62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FC57C-17EE-49AF-8982-43C1609C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E247B-A4B8-4ECE-9181-3557A641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2743A-007D-4724-9844-3591AB93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EE95B-8F0D-40B4-992A-F0479E26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B635-5066-4E03-AE52-34DE50B3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118-5D1C-4DBD-8EAD-608A0B79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316E5-4744-4168-8EB6-5512A395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28DE4-44C3-4BE8-9CC7-96573C97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28F9-DF34-45A9-BCD6-BFAEB155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1591-09F6-40FC-A564-1C93D664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B5665-D95E-439E-8244-B4FC169B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99194-2A62-4A98-A9BD-C04DD9CA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659B5-6828-4BFC-84FB-7273170B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CB615-94F9-44C5-91D0-D9B45F38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30781-CD82-4464-854E-0F3633DE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EB615-EBCF-4FF0-ADA5-20851431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1FB-5D54-4991-9FCB-136D448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5D80B-E024-4322-9B47-AA162EAE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19349-3870-4475-87B5-16D28D5E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F3520-AE7C-49FF-9141-A6726298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1C900-0310-4C4E-84C5-9C367597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62CD9-56E1-4EFC-AE3F-D02166E6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BB6ED-7CDA-40C4-8347-FD6FF0C2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89EBD-0392-4AC7-938F-C90FD6C9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F4ED3-5390-4E91-9A64-F54BD537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28258-FBEE-4DB2-A352-0E61F9E9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A9143-8A85-4223-8772-457DD732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742-B284-45B9-9AF3-60F3843B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1C41B-FA99-478A-98F3-A69F742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1D4FF-6579-430D-BAD5-DDA2DA6F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E62D4-E847-4FDB-BF76-2141330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8CB80-36E0-4CA2-9A19-31AB6E28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65026-49B7-484C-986D-3943CD41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19C51-C947-461C-B6A7-E8855A99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62854-AAF7-4215-BA72-5B47B633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E68F2-4551-4577-AA27-6E83CD62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CA63D-6178-4361-8D5B-CFB4F267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85686-5664-4F21-8A82-4B0B9D2E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D1AD-2C06-410C-9461-19CCD41F65A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E960-4590-4C61-B69E-B3639F3A79B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36FC-2089-41B8-BA0D-F39A0142545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538D-7167-41CA-949A-C5DE805379D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7133-62C3-4902-99C8-29FA548B499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9E84-BC8A-44A7-B8C7-99F2F7E3DF2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B4FD-6557-46F2-BA98-64AB12A3FBC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1B4F-F3B8-41B1-BB51-93AD3653AAD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ED25-57A9-406A-BF45-CDAB62EEC42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5803-4B71-4B02-B550-F0A41CF3667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18C1-C382-4595-8B3D-5245B9333FC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F58B-FCB3-4C74-AB53-016C94DC480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Elastična s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2"/>
          <p:cNvSpPr/>
          <p:nvPr/>
        </p:nvSpPr>
        <p:spPr>
          <a:xfrm>
            <a:off x="345600" y="1523880"/>
            <a:ext cx="7764120" cy="1099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teg rastegne oprugu tako da se ona produlji za 4 c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om silom djeluje uteg ako je konstanta opruge 100 N/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"/>
          <p:cNvSpPr/>
          <p:nvPr/>
        </p:nvSpPr>
        <p:spPr>
          <a:xfrm>
            <a:off x="990720" y="2819520"/>
            <a:ext cx="441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4 cm = 0,04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00 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00 N/m · 0,04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4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Slika 1" descr=""/>
          <p:cNvPicPr/>
          <p:nvPr/>
        </p:nvPicPr>
        <p:blipFill>
          <a:blip r:embed="rId1"/>
          <a:stretch/>
        </p:blipFill>
        <p:spPr>
          <a:xfrm>
            <a:off x="304920" y="1012680"/>
            <a:ext cx="1015920" cy="3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3"/>
          <p:cNvSpPr/>
          <p:nvPr/>
        </p:nvSpPr>
        <p:spPr>
          <a:xfrm>
            <a:off x="311760" y="1371600"/>
            <a:ext cx="85201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va su to elastična tijela?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Nabroji neka elastična tije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elastična si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ime mjerimo sil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mjerna jedinica za sil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produljenje opruge ovisi o sil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Na kojem principu radi dinamomet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 djelovanju sile od 3 N opruga se produlji za 1 c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a će sila produljiti tu oprugu za 2 c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lika sila rastegne oprugu za 15cm ako je konstanta te opru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150N/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Slika 1" descr=""/>
          <p:cNvPicPr/>
          <p:nvPr/>
        </p:nvPicPr>
        <p:blipFill>
          <a:blip r:embed="rId1"/>
          <a:stretch/>
        </p:blipFill>
        <p:spPr>
          <a:xfrm>
            <a:off x="268200" y="838080"/>
            <a:ext cx="310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4"/>
          <p:cNvSpPr/>
          <p:nvPr/>
        </p:nvSpPr>
        <p:spPr>
          <a:xfrm>
            <a:off x="38088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se zbiva s oprugom kad je rastegneš, a zatim pusti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ja se tijela ponašaju slično opruz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362040" cy="26290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28638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571680" y="1000080"/>
            <a:ext cx="8343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Elastična tije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ijela koja se vraćaju u prvobitan oblik nakon prestan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jelovanja s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čelične opruge, gumene vrpce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"/>
          <p:cNvSpPr/>
          <p:nvPr/>
        </p:nvSpPr>
        <p:spPr>
          <a:xfrm>
            <a:off x="437760" y="3124080"/>
            <a:ext cx="86115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7375e"/>
                </a:solidFill>
                <a:latin typeface="Arial"/>
                <a:ea typeface="Arial"/>
              </a:rPr>
              <a:t>Elastična si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st sila kojom se opruga opire djelovanju vanjske sile, k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  rasteže ili stišće. Kada vanjska sila prestane djelova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pruga se pod djelovanjem elastične sile vraća u svoj prvobi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bl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228600" y="1295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imo rastezanje opru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rcRect l="0" t="0" r="0" b="9832"/>
          <a:stretch/>
        </p:blipFill>
        <p:spPr>
          <a:xfrm>
            <a:off x="1447920" y="2133720"/>
            <a:ext cx="5486400" cy="3124080"/>
          </a:xfrm>
          <a:prstGeom prst="rect">
            <a:avLst/>
          </a:prstGeom>
          <a:ln w="0">
            <a:noFill/>
          </a:ln>
        </p:spPr>
      </p:pic>
      <p:sp>
        <p:nvSpPr>
          <p:cNvPr id="519" name="TextBox 8"/>
          <p:cNvSpPr/>
          <p:nvPr/>
        </p:nvSpPr>
        <p:spPr>
          <a:xfrm>
            <a:off x="377640" y="5029200"/>
            <a:ext cx="284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-  početna dulj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-  opte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ena opr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-  produljenje opr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Slika 5" descr=""/>
          <p:cNvPicPr/>
          <p:nvPr/>
        </p:nvPicPr>
        <p:blipFill>
          <a:blip r:embed="rId2"/>
          <a:stretch/>
        </p:blipFill>
        <p:spPr>
          <a:xfrm>
            <a:off x="380880" y="766800"/>
            <a:ext cx="13575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3"/>
          <p:cNvSpPr/>
          <p:nvPr/>
        </p:nvSpPr>
        <p:spPr>
          <a:xfrm>
            <a:off x="1180800" y="990720"/>
            <a:ext cx="65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e mjeren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žemo prikazati i tabli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357200" y="2017800"/>
          <a:ext cx="6096240" cy="1479600"/>
        </p:xfrm>
        <a:graphic>
          <a:graphicData uri="http://schemas.openxmlformats.org/drawingml/2006/table">
            <a:tbl>
              <a:tblPr/>
              <a:tblGrid>
                <a:gridCol w="2032200"/>
                <a:gridCol w="1182600"/>
                <a:gridCol w="28814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a ut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ljenje opru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cm – 10 cm = 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cm – 10 cm = 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cm – 10 cm = 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523" name="TextBox 5"/>
          <p:cNvSpPr/>
          <p:nvPr/>
        </p:nvSpPr>
        <p:spPr>
          <a:xfrm>
            <a:off x="734760" y="3962520"/>
            <a:ext cx="78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to zaključujemo o vezi između sile i produljenja opru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1644480" y="5000760"/>
            <a:ext cx="5664240" cy="82548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oduljenje opruge razmjerno je sili ko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jeluje na opru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9144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Grafički prikaz ovisnosti produljenja opruge o s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1177200" y="4876920"/>
            <a:ext cx="6209640" cy="119124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o je puta veća sila koja rasteže oprug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liko je puta veće produljenje opru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419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4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Grafički prikaz rezultata produljenja za dv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različite op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022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207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Arial"/>
              </a:rPr>
              <a:t>Hookeov zak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3"/>
          <p:cNvSpPr/>
          <p:nvPr/>
        </p:nvSpPr>
        <p:spPr>
          <a:xfrm>
            <a:off x="685080" y="2666880"/>
            <a:ext cx="1614600" cy="52056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F = k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3291120" y="26668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Hookeov za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Straight Arrow Connector 6"/>
          <p:cNvCxnSpPr/>
          <p:nvPr/>
        </p:nvCxnSpPr>
        <p:spPr>
          <a:xfrm>
            <a:off x="2666520" y="2971800"/>
            <a:ext cx="358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4" name="TextBox 7"/>
          <p:cNvSpPr/>
          <p:nvPr/>
        </p:nvSpPr>
        <p:spPr>
          <a:xfrm>
            <a:off x="582840" y="4929120"/>
            <a:ext cx="6557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stanta oprug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 ovisi o vrsti opru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jedinica N/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8"/>
          <p:cNvSpPr/>
          <p:nvPr/>
        </p:nvSpPr>
        <p:spPr>
          <a:xfrm>
            <a:off x="1251000" y="1676520"/>
            <a:ext cx="57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duljenje opruge razmjerno je s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9"/>
          <p:cNvSpPr/>
          <p:nvPr/>
        </p:nvSpPr>
        <p:spPr>
          <a:xfrm>
            <a:off x="1720080" y="3929040"/>
            <a:ext cx="1655640" cy="52056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 = l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– l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Straight Arrow Connector 10"/>
          <p:cNvCxnSpPr/>
          <p:nvPr/>
        </p:nvCxnSpPr>
        <p:spPr>
          <a:xfrm>
            <a:off x="3499920" y="4214880"/>
            <a:ext cx="358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TextBox 11"/>
          <p:cNvSpPr/>
          <p:nvPr/>
        </p:nvSpPr>
        <p:spPr>
          <a:xfrm>
            <a:off x="4019760" y="392904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oduljenje op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586728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Arial"/>
              </a:rPr>
              <a:t>Dinamometar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709200" y="1676520"/>
            <a:ext cx="38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 uređaj za mjerenje s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1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3467160" cy="4743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dinamometri"/>
          <p:cNvPicPr/>
          <p:nvPr/>
        </p:nvPicPr>
        <p:blipFill>
          <a:blip r:embed="rId2"/>
          <a:stretch/>
        </p:blipFill>
        <p:spPr>
          <a:xfrm>
            <a:off x="304920" y="2209680"/>
            <a:ext cx="2190600" cy="25020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8"/>
          <p:cNvSpPr/>
          <p:nvPr/>
        </p:nvSpPr>
        <p:spPr>
          <a:xfrm>
            <a:off x="1913760" y="4343400"/>
            <a:ext cx="3186000" cy="1739880"/>
          </a:xfrm>
          <a:prstGeom prst="rect">
            <a:avLst/>
          </a:prstGeom>
          <a:noFill/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jedinica 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jutn ( znak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lonjutn kN = 10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53:55Z</dcterms:modified>
  <cp:revision>31</cp:revision>
  <dc:subject/>
  <dc:title>Slide 1</dc:title>
</cp:coreProperties>
</file>